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E4D-F384-4132-B783-64DED1F9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D7E-F564-4ED2-BE92-1FCC5E6A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3D4-4E77-431D-83AC-BCA23FB4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0EA-506F-4E13-BC7C-A09F2B40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E143-7987-4206-8DDA-E0AD2976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FA87-16BA-4B0E-B3E2-89CE600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4390-EB34-4868-B025-75B5779D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27B4-5512-4CBB-93C4-85EE55B7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5787-CF06-4D29-A94E-A3992CC3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CC48-A59D-45AF-A56A-5B6783CD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1F01-EA00-44FB-BA62-6E0F3A4C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44B-F609-4546-AAC3-0E8D07FF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78D3-EA98-480B-91CF-63F01405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8B33-8A31-4888-9C07-E263CF39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A7B7-B7E3-40DE-8C5F-EEAF3C60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7518-4F68-4B28-84F3-09CE87C7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2EB9-E818-4BCD-A398-39593AC1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C9F-E127-485F-B3C5-8EEB39BD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A3C-CA46-499A-842E-E1D664FD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7AA-67E8-487A-AAF3-59174082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859-AFAA-4B55-8DC2-59C19AF0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8A8-4126-41E5-BAE2-BB85D5DE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823-3824-4C99-8844-DEA68450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584-180D-434F-81B5-FB9348E4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7146-02E7-4079-AB03-29673C259B0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A1F5-DC1F-41DE-94E0-9227A284AE3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838440"/>
            <a:ext cx="6870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people sa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monster lives in this famous British lake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307560" y="540972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0760" y="3489840"/>
            <a:ext cx="2962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Lock 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3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